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C0A-CB20-4A51-A57C-74BC279F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D21-66AA-4F5D-A29C-0B6BD23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72A-8C2F-4646-9C92-8498A281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EA7-FF98-4FB5-B4D4-E814DF43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BA3-0FB9-4F66-9C54-E35D572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BCA-BEAE-4B29-8F1D-30855EB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9CA-593A-42FF-B3D7-092EA94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160-6498-4722-975D-BA03B38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5A7-73E4-4F06-9C45-138AF80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2D5-EE36-49B8-8012-CC17B5F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098-9B4F-4D65-9A73-7E26BA0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212-3A32-4CF3-8276-612C347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49A-838B-4F0F-8709-8A32B1756D4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4 Čas rýchlym svojím tok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as rýchlym svojím tok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i odná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ďaľším starým rok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ieň vzná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chceme vrúcnou vďa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ať Bohu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láskavou vždy ru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il si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voje štedré dl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otvár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ary každoden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rozd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bolesť, žiaľ či ties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iek pre nás m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novú pies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ádej v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naše chvályvzd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prosieb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, Pane, požehn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prahu sme rok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nov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ľud na každom krok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ň od zlého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9:00:33Z</dcterms:modified>
  <cp:revision>96</cp:revision>
  <dc:subject/>
  <dc:title>Je veľký náš Pán, on slávy je Kráľ Nech do všetkých strán  spev vrúcnych znie chvál.</dc:title>
</cp:coreProperties>
</file>